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5.wmf" ContentType="image/x-wmf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3D38-A378-44CF-B1A3-64AAA285FA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D76B-8D3F-4287-8D16-58F7DD5A971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7632-A4DD-4606-B282-CF0719ADBA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E69-E644-48BC-BB00-5E2DF908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9F8-2A40-4CDB-94B3-48AA6EAD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763-61F1-4169-8735-0CDFAA16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9DE-0A72-4CC8-B881-C97C5882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F8D-802C-4220-887A-4EA767B8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999A-C0BE-488F-935E-DAD4D424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933-9A82-45EA-B09F-78AFE034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49F-5B09-4DC3-A9B6-4AFC64F8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B2E-6106-4E40-B228-D737AB1E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5FE-4C81-4CA8-A84A-89045CD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9653-4330-43E3-81B0-77127A02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B8E-2C51-4DD0-9085-28D2C419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9d2"/>
            </a:gs>
            <a:gs pos="50000">
              <a:srgbClr val="001c37"/>
            </a:gs>
            <a:gs pos="100000">
              <a:srgbClr val="0069d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61DF-4473-4637-B897-B7B122F8C2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"/>
          <p:cNvSpPr/>
          <p:nvPr/>
        </p:nvSpPr>
        <p:spPr>
          <a:xfrm>
            <a:off x="2067120" y="981000"/>
            <a:ext cx="498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66"/>
                </a:solidFill>
                <a:latin typeface="Times New Roman"/>
              </a:rPr>
              <a:t>ALGORIT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50920" y="2205000"/>
            <a:ext cx="8642160" cy="41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roceso que permite llegar a un resultado fina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Ordenan los pasos de acuerdo a su prior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Deben ser seguidos con criterio y no ciegamen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AHA Blue outline hero"/>
          <p:cNvPicPr/>
          <p:nvPr/>
        </p:nvPicPr>
        <p:blipFill>
          <a:blip r:embed="rId4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25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52" name="Picture 26" descr="Logo Consejo Nacional de Resucitación"/>
            <p:cNvPicPr/>
            <p:nvPr/>
          </p:nvPicPr>
          <p:blipFill>
            <a:blip r:embed="rId5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7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2"/>
          <p:cNvSpPr/>
          <p:nvPr/>
        </p:nvSpPr>
        <p:spPr>
          <a:xfrm>
            <a:off x="250920" y="1395360"/>
            <a:ext cx="86421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Existen cuatro ritmos de paro cardiorespiratorio</a:t>
            </a: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2892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AR" sz="6000" spc="-1" strike="noStrike">
                <a:solidFill>
                  <a:srgbClr val="ffffff"/>
                </a:solidFill>
                <a:latin typeface="Arial"/>
                <a:ea typeface="Arial"/>
              </a:rPr>
              <a:t>FV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52892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AR" sz="6000" spc="-1" strike="noStrike">
                <a:solidFill>
                  <a:srgbClr val="ffffff"/>
                </a:solidFill>
                <a:latin typeface="Arial"/>
                <a:ea typeface="Arial"/>
              </a:rPr>
              <a:t>TV sin Puls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528920">
              <a:lnSpc>
                <a:spcPct val="100000"/>
              </a:lnSpc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AR" sz="6000" spc="-1" strike="noStrike">
                <a:solidFill>
                  <a:srgbClr val="ffffff"/>
                </a:solidFill>
                <a:latin typeface="Arial"/>
                <a:ea typeface="Arial"/>
              </a:rPr>
              <a:t>AESP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1528920">
              <a:lnSpc>
                <a:spcPct val="100000"/>
              </a:lnSpc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s-AR" sz="6000" spc="-1" strike="noStrike">
                <a:solidFill>
                  <a:srgbClr val="ffffff"/>
                </a:solidFill>
                <a:latin typeface="Arial"/>
                <a:ea typeface="Arial"/>
              </a:rPr>
              <a:t>Asistoli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-9360" y="785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Times New Roman"/>
              </a:rPr>
              <a:t>ALGORIT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4" descr="AHA Blue outline hero"/>
          <p:cNvPicPr/>
          <p:nvPr/>
        </p:nvPicPr>
        <p:blipFill>
          <a:blip r:embed="rId5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25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135" name="Picture 26" descr="Logo Consejo Nacional de Resucitación"/>
            <p:cNvPicPr/>
            <p:nvPr/>
          </p:nvPicPr>
          <p:blipFill>
            <a:blip r:embed="rId6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27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1"/>
          <p:cNvSpPr/>
          <p:nvPr/>
        </p:nvSpPr>
        <p:spPr>
          <a:xfrm>
            <a:off x="4221360" y="620640"/>
            <a:ext cx="229464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Controle el Rit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¿Es un ritmo desfibril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311480" y="1314360"/>
            <a:ext cx="2395080" cy="64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Desfibrile una vez con 360 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Reanude RCP inmediata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5 cicl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87280" y="2824200"/>
            <a:ext cx="4464000" cy="1736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00"/>
                </a:solidFill>
                <a:latin typeface="Arial"/>
              </a:rPr>
              <a:t>Continúe con RCP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mientras el desfibrilador se car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Interrumpa la RC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00"/>
                </a:solidFill>
                <a:latin typeface="Arial"/>
              </a:rPr>
              <a:t>Desfibrile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una vez con 360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Reanude RCP inmediatamente 5 cicl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Cuando la vía IV o IO esté colocada adminis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00"/>
                </a:solidFill>
                <a:latin typeface="Arial"/>
              </a:rPr>
              <a:t>ADRENALINA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1 mg. Cada 3 a 5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VASOPRESINA 40 U en reemplazo de la primera o segunda dosis de adrenali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87280" y="5443560"/>
            <a:ext cx="4464000" cy="1006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00"/>
                </a:solidFill>
                <a:latin typeface="Arial"/>
              </a:rPr>
              <a:t>Continúe con RCP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mientras el desfibrilador se carg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Interrumpa la RC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00"/>
                </a:solidFill>
                <a:latin typeface="Arial"/>
              </a:rPr>
              <a:t>Desfibrile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una vez con 360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Reanude RCP inmediatamente 5 cicl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Considere la administración de antiarritmic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1681200" y="2136600"/>
            <a:ext cx="1674360" cy="39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Controle el Rit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¿Es un ritmo desfibril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1675080" y="4740120"/>
            <a:ext cx="1674360" cy="39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Controle el Rit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¿Es un ritmo desfibril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2" descr="fvtv"/>
          <p:cNvPicPr/>
          <p:nvPr/>
        </p:nvPicPr>
        <p:blipFill>
          <a:blip r:embed="rId1"/>
          <a:srcRect l="2173" t="9694" r="869" b="2714"/>
          <a:stretch/>
        </p:blipFill>
        <p:spPr>
          <a:xfrm>
            <a:off x="4826160" y="2857680"/>
            <a:ext cx="4260600" cy="17017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cxnSp>
        <p:nvCxnSpPr>
          <p:cNvPr id="144" name="AutoShape 24"/>
          <p:cNvCxnSpPr>
            <a:stCxn id="138" idx="2"/>
            <a:endCxn id="141" idx="0"/>
          </p:cNvCxnSpPr>
          <p:nvPr/>
        </p:nvCxnSpPr>
        <p:spPr>
          <a:xfrm>
            <a:off x="2509920" y="1966680"/>
            <a:ext cx="10080" cy="170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AutoShape 25"/>
          <p:cNvCxnSpPr>
            <a:stCxn id="141" idx="2"/>
            <a:endCxn id="139" idx="0"/>
          </p:cNvCxnSpPr>
          <p:nvPr/>
        </p:nvCxnSpPr>
        <p:spPr>
          <a:xfrm>
            <a:off x="2518920" y="2546280"/>
            <a:ext cx="1080" cy="278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AutoShape 26"/>
          <p:cNvCxnSpPr>
            <a:stCxn id="139" idx="2"/>
            <a:endCxn id="142" idx="0"/>
          </p:cNvCxnSpPr>
          <p:nvPr/>
        </p:nvCxnSpPr>
        <p:spPr>
          <a:xfrm flipH="1">
            <a:off x="2512440" y="4571640"/>
            <a:ext cx="6840" cy="168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AutoShape 27"/>
          <p:cNvCxnSpPr>
            <a:stCxn id="142" idx="2"/>
            <a:endCxn id="140" idx="0"/>
          </p:cNvCxnSpPr>
          <p:nvPr/>
        </p:nvCxnSpPr>
        <p:spPr>
          <a:xfrm>
            <a:off x="2512800" y="5149800"/>
            <a:ext cx="6840" cy="2944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AutoShape 28"/>
          <p:cNvCxnSpPr>
            <a:stCxn id="140" idx="1"/>
            <a:endCxn id="139" idx="1"/>
          </p:cNvCxnSpPr>
          <p:nvPr/>
        </p:nvCxnSpPr>
        <p:spPr>
          <a:xfrm flipH="1" rot="10800000">
            <a:off x="286200" y="3698280"/>
            <a:ext cx="2520" cy="22546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149" name="Group 45"/>
          <p:cNvGrpSpPr/>
          <p:nvPr/>
        </p:nvGrpSpPr>
        <p:grpSpPr>
          <a:xfrm>
            <a:off x="1491480" y="685800"/>
            <a:ext cx="2729520" cy="628920"/>
            <a:chOff x="1491480" y="685800"/>
            <a:chExt cx="2729520" cy="628920"/>
          </a:xfrm>
        </p:grpSpPr>
        <p:sp>
          <p:nvSpPr>
            <p:cNvPr id="150" name="Text Box 13"/>
            <p:cNvSpPr/>
            <p:nvPr/>
          </p:nvSpPr>
          <p:spPr>
            <a:xfrm>
              <a:off x="1491480" y="685800"/>
              <a:ext cx="2040120" cy="368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00"/>
                  </a:solidFill>
                  <a:latin typeface="Arial"/>
                </a:rPr>
                <a:t>FV / TV sin Pul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" name="AutoShape 23"/>
            <p:cNvCxnSpPr>
              <a:stCxn id="150" idx="2"/>
              <a:endCxn id="138" idx="0"/>
            </p:cNvCxnSpPr>
            <p:nvPr/>
          </p:nvCxnSpPr>
          <p:spPr>
            <a:xfrm flipH="1">
              <a:off x="2509560" y="1065240"/>
              <a:ext cx="2160" cy="249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52" name="AutoShape 29"/>
            <p:cNvCxnSpPr>
              <a:stCxn id="137" idx="1"/>
              <a:endCxn id="150" idx="3"/>
            </p:cNvCxnSpPr>
            <p:nvPr/>
          </p:nvCxnSpPr>
          <p:spPr>
            <a:xfrm flipH="1" flipV="1">
              <a:off x="3536640" y="875520"/>
              <a:ext cx="684720" cy="10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53" name="Text Box 31"/>
            <p:cNvSpPr/>
            <p:nvPr/>
          </p:nvSpPr>
          <p:spPr>
            <a:xfrm>
              <a:off x="3702240" y="85104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 Box 38"/>
          <p:cNvSpPr/>
          <p:nvPr/>
        </p:nvSpPr>
        <p:spPr>
          <a:xfrm>
            <a:off x="2516400" y="25336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9"/>
          <p:cNvSpPr/>
          <p:nvPr/>
        </p:nvSpPr>
        <p:spPr>
          <a:xfrm>
            <a:off x="2529000" y="513720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6"/>
          <p:cNvGrpSpPr/>
          <p:nvPr/>
        </p:nvGrpSpPr>
        <p:grpSpPr>
          <a:xfrm>
            <a:off x="6516720" y="647640"/>
            <a:ext cx="2027160" cy="530640"/>
            <a:chOff x="6516720" y="647640"/>
            <a:chExt cx="2027160" cy="530640"/>
          </a:xfrm>
        </p:grpSpPr>
        <p:sp>
          <p:nvSpPr>
            <p:cNvPr id="157" name="Text Box 14"/>
            <p:cNvSpPr/>
            <p:nvPr/>
          </p:nvSpPr>
          <p:spPr>
            <a:xfrm>
              <a:off x="7182000" y="901800"/>
              <a:ext cx="1361880" cy="2764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00"/>
                  </a:solidFill>
                  <a:latin typeface="Arial"/>
                </a:rPr>
                <a:t>Asistolia / AE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AutoShape 30"/>
            <p:cNvCxnSpPr>
              <a:stCxn id="137" idx="3"/>
              <a:endCxn id="157" idx="1"/>
            </p:cNvCxnSpPr>
            <p:nvPr/>
          </p:nvCxnSpPr>
          <p:spPr>
            <a:xfrm>
              <a:off x="6516720" y="885600"/>
              <a:ext cx="659520" cy="1609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59" name="Text Box 44"/>
            <p:cNvSpPr/>
            <p:nvPr/>
          </p:nvSpPr>
          <p:spPr>
            <a:xfrm>
              <a:off x="6708240" y="64764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TV.wmv" descr=""/>
          <p:cNvPicPr/>
          <p:nvPr/>
        </p:nvPicPr>
        <p:blipFill>
          <a:blip r:embed="rId2"/>
          <a:stretch/>
        </p:blipFill>
        <p:spPr>
          <a:xfrm>
            <a:off x="4788000" y="5573880"/>
            <a:ext cx="2376360" cy="2568240"/>
          </a:xfrm>
          <a:prstGeom prst="rect">
            <a:avLst/>
          </a:prstGeom>
          <a:ln w="0">
            <a:noFill/>
          </a:ln>
        </p:spPr>
      </p:pic>
      <p:pic>
        <p:nvPicPr>
          <p:cNvPr id="161" name="FV.wmv" descr=""/>
          <p:cNvPicPr/>
          <p:nvPr/>
        </p:nvPicPr>
        <p:blipFill>
          <a:blip r:embed="rId3"/>
          <a:stretch/>
        </p:blipFill>
        <p:spPr>
          <a:xfrm>
            <a:off x="7164360" y="5581800"/>
            <a:ext cx="2038320" cy="274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7" descr="AHA Blue outline hero"/>
          <p:cNvPicPr/>
          <p:nvPr/>
        </p:nvPicPr>
        <p:blipFill>
          <a:blip r:embed="rId4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58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164" name="Picture 59" descr="Logo Consejo Nacional de Resucitación"/>
            <p:cNvPicPr/>
            <p:nvPr/>
          </p:nvPicPr>
          <p:blipFill>
            <a:blip r:embed="rId5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60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5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8"/>
          <p:cNvSpPr/>
          <p:nvPr/>
        </p:nvSpPr>
        <p:spPr>
          <a:xfrm>
            <a:off x="600120" y="1547640"/>
            <a:ext cx="7942320" cy="1923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Continúe con RCP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mientras el desfibrilador se car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0000"/>
                </a:solidFill>
                <a:latin typeface="Arial"/>
              </a:rPr>
              <a:t>Interrumpa la R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Arial"/>
              </a:rPr>
              <a:t>Desfibrile</a:t>
            </a: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una vez con 360 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Reanude RCP inmediatamente 5 cic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Considere antiarrítmicos luego de la segunda o tercera desfibril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AutoShape 9"/>
          <p:cNvCxnSpPr>
            <a:stCxn id="166" idx="2"/>
            <a:endCxn id="168" idx="0"/>
          </p:cNvCxnSpPr>
          <p:nvPr/>
        </p:nvCxnSpPr>
        <p:spPr>
          <a:xfrm>
            <a:off x="4571640" y="348120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Text Box 10"/>
          <p:cNvSpPr/>
          <p:nvPr/>
        </p:nvSpPr>
        <p:spPr>
          <a:xfrm>
            <a:off x="250920" y="3881520"/>
            <a:ext cx="8642160" cy="2867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derar antiarrítm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AMIODARONA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(IIb) 300 mg IV en bolo, segunda dosis 150 mg IV en b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IDOCAIN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Indeterminada) 1 a 1,5 mg/kg IV en bo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petir 0,5 a 0,75 mg/kg cada 5 a 10 minutos hasta 3 mg/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GNESI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(IIa solo en Torsades de Point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 gr IV en 10 ml de DA5% en 5 a 2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836440" y="633240"/>
            <a:ext cx="3477240" cy="5814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FV / TV sin Pu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12"/>
          <p:cNvCxnSpPr>
            <a:stCxn id="169" idx="2"/>
            <a:endCxn id="166" idx="0"/>
          </p:cNvCxnSpPr>
          <p:nvPr/>
        </p:nvCxnSpPr>
        <p:spPr>
          <a:xfrm flipH="1">
            <a:off x="4571280" y="1219320"/>
            <a:ext cx="3960" cy="3290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171" name="Picture 25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26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173" name="Picture 27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28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61920"/>
            <a:ext cx="91440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Amiodarona en 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osis de ataque en bolo: hasta 450 m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1°  Bolo de 300 mg </a:t>
            </a:r>
            <a:r>
              <a:rPr b="0" lang="es-ES_trad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2 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°  Bolo de 150 mg </a:t>
            </a:r>
            <a:r>
              <a:rPr b="0" lang="es-ES_trad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1 a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osis máxima: 2,2g/día </a:t>
            </a:r>
            <a:r>
              <a:rPr b="0" lang="es-ES_trad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13 amp/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11880" y="7920"/>
            <a:ext cx="1355760" cy="966960"/>
            <a:chOff x="11880" y="7920"/>
            <a:chExt cx="1355760" cy="966960"/>
          </a:xfrm>
        </p:grpSpPr>
        <p:pic>
          <p:nvPicPr>
            <p:cNvPr id="178" name="Picture 7" descr="Logo Consejo Nacional de Resucitación"/>
            <p:cNvPicPr/>
            <p:nvPr/>
          </p:nvPicPr>
          <p:blipFill>
            <a:blip r:embed="rId1"/>
            <a:srcRect l="0" t="-311" r="0" b="27232"/>
            <a:stretch/>
          </p:blipFill>
          <p:spPr>
            <a:xfrm>
              <a:off x="239760" y="792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8"/>
            <p:cNvSpPr/>
            <p:nvPr/>
          </p:nvSpPr>
          <p:spPr>
            <a:xfrm>
              <a:off x="11880" y="54612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10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1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182" name="Picture 12" descr="Logo Consejo Nacional de Resucitación"/>
            <p:cNvPicPr/>
            <p:nvPr/>
          </p:nvPicPr>
          <p:blipFill>
            <a:blip r:embed="rId3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13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Amiodarona en TV 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con pulso y en post-reani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533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Arial"/>
              </a:rPr>
              <a:t>Dosis máxima: 2,2g/día </a:t>
            </a:r>
            <a:r>
              <a:rPr b="0" lang="es-ES_tradnl" sz="3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3400" spc="-1" strike="noStrike">
                <a:solidFill>
                  <a:srgbClr val="ffffff"/>
                </a:solidFill>
                <a:latin typeface="Arial"/>
              </a:rPr>
              <a:t>13 amp/dí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1°  Bolo de 150 mg </a:t>
            </a:r>
            <a:r>
              <a:rPr b="0" lang="es-ES_trad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1 amp. En 10 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°  1mg/min </a:t>
            </a:r>
            <a:r>
              <a:rPr b="0" lang="es-ES_trad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6 horas  (360 m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3°  0.5 mg/min </a:t>
            </a:r>
            <a:r>
              <a:rPr b="0" lang="es-ES_trad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18 horas (540 mg)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11880" y="7920"/>
            <a:ext cx="1355760" cy="966960"/>
            <a:chOff x="11880" y="7920"/>
            <a:chExt cx="1355760" cy="966960"/>
          </a:xfrm>
        </p:grpSpPr>
        <p:pic>
          <p:nvPicPr>
            <p:cNvPr id="187" name="Picture 7" descr="Logo Consejo Nacional de Resucitación"/>
            <p:cNvPicPr/>
            <p:nvPr/>
          </p:nvPicPr>
          <p:blipFill>
            <a:blip r:embed="rId1"/>
            <a:srcRect l="0" t="-311" r="0" b="27232"/>
            <a:stretch/>
          </p:blipFill>
          <p:spPr>
            <a:xfrm>
              <a:off x="239760" y="792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8"/>
            <p:cNvSpPr/>
            <p:nvPr/>
          </p:nvSpPr>
          <p:spPr>
            <a:xfrm>
              <a:off x="11880" y="54612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10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1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191" name="Picture 12" descr="Logo Consejo Nacional de Resucitación"/>
            <p:cNvPicPr/>
            <p:nvPr/>
          </p:nvPicPr>
          <p:blipFill>
            <a:blip r:embed="rId3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3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95160" y="837720"/>
            <a:ext cx="4165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Prepa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6 amp (900mg)/500ml DA/5%= 1,8 mg/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60 mg -------- 200 ml ------- 360 m (6 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0.5 ml -------     1 m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1 ml = 20 macro gotas = 60 microg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30  micro gotas ------- 1 minuto</a:t>
            </a: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6"/>
          <p:cNvGrpSpPr/>
          <p:nvPr/>
        </p:nvGrpSpPr>
        <p:grpSpPr>
          <a:xfrm>
            <a:off x="11880" y="7920"/>
            <a:ext cx="1355760" cy="966960"/>
            <a:chOff x="11880" y="7920"/>
            <a:chExt cx="1355760" cy="966960"/>
          </a:xfrm>
        </p:grpSpPr>
        <p:pic>
          <p:nvPicPr>
            <p:cNvPr id="196" name="Picture 7" descr="Logo Consejo Nacional de Resucitación"/>
            <p:cNvPicPr/>
            <p:nvPr/>
          </p:nvPicPr>
          <p:blipFill>
            <a:blip r:embed="rId1"/>
            <a:srcRect l="0" t="-311" r="0" b="27232"/>
            <a:stretch/>
          </p:blipFill>
          <p:spPr>
            <a:xfrm>
              <a:off x="239760" y="792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8"/>
            <p:cNvSpPr/>
            <p:nvPr/>
          </p:nvSpPr>
          <p:spPr>
            <a:xfrm>
              <a:off x="11880" y="54612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10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1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200" name="Picture 12" descr="Logo Consejo Nacional de Resucitación"/>
            <p:cNvPicPr/>
            <p:nvPr/>
          </p:nvPicPr>
          <p:blipFill>
            <a:blip r:embed="rId3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3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632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6 amp/500ml DA/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540 mg -------- 300 ml -------- 1080 m (18 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0.3 ml -------       1 m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1 ml = 20 macro gotas = 60 microg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Arial"/>
              </a:rPr>
              <a:t>18  micro gotas ------- 1 minuto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523600" y="655200"/>
            <a:ext cx="41403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Prepa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AHA Blue outline hero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11"/>
          <p:cNvGrpSpPr/>
          <p:nvPr/>
        </p:nvGrpSpPr>
        <p:grpSpPr>
          <a:xfrm>
            <a:off x="720" y="-27000"/>
            <a:ext cx="1355760" cy="966960"/>
            <a:chOff x="720" y="-27000"/>
            <a:chExt cx="1355760" cy="966960"/>
          </a:xfrm>
        </p:grpSpPr>
        <p:pic>
          <p:nvPicPr>
            <p:cNvPr id="206" name="Picture 12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-2700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/>
            <p:cNvSpPr/>
            <p:nvPr/>
          </p:nvSpPr>
          <p:spPr>
            <a:xfrm>
              <a:off x="720" y="511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7"/>
          <p:cNvSpPr/>
          <p:nvPr/>
        </p:nvSpPr>
        <p:spPr>
          <a:xfrm>
            <a:off x="2964240" y="620640"/>
            <a:ext cx="229464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Controle el Rit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¿Es un ritmo desfibrilabl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314960" y="1681200"/>
            <a:ext cx="4464000" cy="1189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00"/>
                </a:solidFill>
                <a:latin typeface="Arial"/>
              </a:rPr>
              <a:t>Continúe con RCP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por 5 cicl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Cuando la vía IV o IO esté colocada adminis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DRENALINA 1 mg. Cada 3 a 5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VASOPRESINA 40 UI en reemplazo de la primera o segunda dosis de adrenalina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257800" y="5110200"/>
            <a:ext cx="2590920" cy="580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Cambie al protocolo de FV / TV sin Pul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5715360" y="3828960"/>
            <a:ext cx="1674360" cy="39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Controle el Rit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¿Es un ritmo desfibrilabl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21"/>
          <p:cNvCxnSpPr>
            <a:stCxn id="211" idx="2"/>
            <a:endCxn id="210" idx="0"/>
          </p:cNvCxnSpPr>
          <p:nvPr/>
        </p:nvCxnSpPr>
        <p:spPr>
          <a:xfrm>
            <a:off x="6552720" y="4238280"/>
            <a:ext cx="1080" cy="87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Text Box 29"/>
          <p:cNvSpPr/>
          <p:nvPr/>
        </p:nvSpPr>
        <p:spPr>
          <a:xfrm>
            <a:off x="7979760" y="3676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0" descr="asistolia"/>
          <p:cNvPicPr/>
          <p:nvPr/>
        </p:nvPicPr>
        <p:blipFill>
          <a:blip r:embed="rId1"/>
          <a:srcRect l="958" t="0" r="4965" b="7305"/>
          <a:stretch/>
        </p:blipFill>
        <p:spPr>
          <a:xfrm>
            <a:off x="236520" y="2133720"/>
            <a:ext cx="3889440" cy="1827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15" name="Text Box 31"/>
          <p:cNvSpPr/>
          <p:nvPr/>
        </p:nvSpPr>
        <p:spPr>
          <a:xfrm>
            <a:off x="6235920" y="45007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33"/>
          <p:cNvCxnSpPr>
            <a:stCxn id="211" idx="3"/>
            <a:endCxn id="209" idx="3"/>
          </p:cNvCxnSpPr>
          <p:nvPr/>
        </p:nvCxnSpPr>
        <p:spPr>
          <a:xfrm flipV="1">
            <a:off x="7399440" y="2280960"/>
            <a:ext cx="1380240" cy="1753200"/>
          </a:xfrm>
          <a:prstGeom prst="bentConnector3">
            <a:avLst>
              <a:gd name="adj1" fmla="val 116566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7" name="AutoShape 34"/>
          <p:cNvCxnSpPr>
            <a:stCxn id="209" idx="2"/>
            <a:endCxn id="211" idx="0"/>
          </p:cNvCxnSpPr>
          <p:nvPr/>
        </p:nvCxnSpPr>
        <p:spPr>
          <a:xfrm>
            <a:off x="6546600" y="2881440"/>
            <a:ext cx="6840" cy="9482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AutoShape 35"/>
          <p:cNvCxnSpPr>
            <a:stCxn id="219" idx="2"/>
            <a:endCxn id="209" idx="0"/>
          </p:cNvCxnSpPr>
          <p:nvPr/>
        </p:nvCxnSpPr>
        <p:spPr>
          <a:xfrm flipH="1">
            <a:off x="6546240" y="1236240"/>
            <a:ext cx="3960" cy="4453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20" name="Picture 36" descr="image003"/>
          <p:cNvPicPr/>
          <p:nvPr/>
        </p:nvPicPr>
        <p:blipFill>
          <a:blip r:embed="rId2"/>
          <a:stretch/>
        </p:blipFill>
        <p:spPr>
          <a:xfrm>
            <a:off x="250920" y="4251240"/>
            <a:ext cx="4624200" cy="1087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pSp>
        <p:nvGrpSpPr>
          <p:cNvPr id="221" name="Group 43"/>
          <p:cNvGrpSpPr/>
          <p:nvPr/>
        </p:nvGrpSpPr>
        <p:grpSpPr>
          <a:xfrm>
            <a:off x="694080" y="885960"/>
            <a:ext cx="2269440" cy="562680"/>
            <a:chOff x="694080" y="885960"/>
            <a:chExt cx="2269440" cy="562680"/>
          </a:xfrm>
        </p:grpSpPr>
        <p:sp>
          <p:nvSpPr>
            <p:cNvPr id="222" name="Text Box 9"/>
            <p:cNvSpPr/>
            <p:nvPr/>
          </p:nvSpPr>
          <p:spPr>
            <a:xfrm>
              <a:off x="694080" y="1084320"/>
              <a:ext cx="1421280" cy="2764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200" spc="-1" strike="noStrike">
                  <a:solidFill>
                    <a:srgbClr val="ffff00"/>
                  </a:solidFill>
                  <a:latin typeface="Arial"/>
                </a:rPr>
                <a:t>FV / TV sin Pul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" name="AutoShape 23"/>
            <p:cNvCxnSpPr>
              <a:stCxn id="208" idx="1"/>
              <a:endCxn id="222" idx="3"/>
            </p:cNvCxnSpPr>
            <p:nvPr/>
          </p:nvCxnSpPr>
          <p:spPr>
            <a:xfrm flipH="1">
              <a:off x="2179800" y="885960"/>
              <a:ext cx="784080" cy="343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24" name="Text Box 41"/>
            <p:cNvSpPr/>
            <p:nvPr/>
          </p:nvSpPr>
          <p:spPr>
            <a:xfrm>
              <a:off x="2340000" y="111132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44"/>
          <p:cNvGrpSpPr/>
          <p:nvPr/>
        </p:nvGrpSpPr>
        <p:grpSpPr>
          <a:xfrm>
            <a:off x="5203080" y="577800"/>
            <a:ext cx="2320200" cy="647640"/>
            <a:chOff x="5203080" y="577800"/>
            <a:chExt cx="2320200" cy="647640"/>
          </a:xfrm>
        </p:grpSpPr>
        <p:sp>
          <p:nvSpPr>
            <p:cNvPr id="219" name="Text Box 10"/>
            <p:cNvSpPr/>
            <p:nvPr/>
          </p:nvSpPr>
          <p:spPr>
            <a:xfrm>
              <a:off x="5576400" y="857160"/>
              <a:ext cx="1946880" cy="36828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ffff00"/>
                  </a:solidFill>
                  <a:latin typeface="Arial"/>
                </a:rPr>
                <a:t>Asistolia / A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24"/>
            <p:cNvCxnSpPr>
              <a:stCxn id="208" idx="3"/>
              <a:endCxn id="219" idx="1"/>
            </p:cNvCxnSpPr>
            <p:nvPr/>
          </p:nvCxnSpPr>
          <p:spPr>
            <a:xfrm>
              <a:off x="5259240" y="885600"/>
              <a:ext cx="310320" cy="1623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27" name="Text Box 42"/>
            <p:cNvSpPr/>
            <p:nvPr/>
          </p:nvSpPr>
          <p:spPr>
            <a:xfrm>
              <a:off x="5203080" y="5778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fff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8" name="BAV3.wmv" descr=""/>
          <p:cNvPicPr/>
          <p:nvPr/>
        </p:nvPicPr>
        <p:blipFill>
          <a:blip r:embed="rId3"/>
          <a:stretch/>
        </p:blipFill>
        <p:spPr>
          <a:xfrm>
            <a:off x="539640" y="54864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AHA Blue outline hero"/>
          <p:cNvPicPr/>
          <p:nvPr/>
        </p:nvPicPr>
        <p:blipFill>
          <a:blip r:embed="rId4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54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231" name="Picture 55" descr="Logo Consejo Nacional de Resucitación"/>
            <p:cNvPicPr/>
            <p:nvPr/>
          </p:nvPicPr>
          <p:blipFill>
            <a:blip r:embed="rId5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56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2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403280" y="0"/>
            <a:ext cx="582300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7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236" name="Picture 8" descr="Logo Consejo Nacional de Resucitación"/>
            <p:cNvPicPr/>
            <p:nvPr/>
          </p:nvPicPr>
          <p:blipFill>
            <a:blip r:embed="rId3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9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3"/>
          <p:cNvSpPr/>
          <p:nvPr/>
        </p:nvSpPr>
        <p:spPr>
          <a:xfrm>
            <a:off x="741240" y="1268280"/>
            <a:ext cx="76345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mprima fuerte y rá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ermita que el tórax retorne a su estad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Minimice las interrupciones en las compre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Un ciclo de RCP 30 compresiones 2 ventilaciones. 5 ciclos en 2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vite la hiperventi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on vía aérea avanzada: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Comprima 100 veces por min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Ventile 8 a 10 veces por min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Las compresiones y las ventilaciones son 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     asincrón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Tome el pulso cada 2 minu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otar compresiones cada 2 minutos (5 ciclos) mientras controla el rit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apnografía Presion arterial monitoreo intraar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091880" y="4995720"/>
            <a:ext cx="6937920" cy="17398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00"/>
                </a:solidFill>
                <a:latin typeface="Arial"/>
              </a:rPr>
              <a:t>Busque y trate los factores predis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POXIA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OMBOSIS CORO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POVOLEMIA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OMBOSIS PULMON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PO/HIPERKALEMIA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ENSION NEUMOTO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POTERMIA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PONAMIENTO CARDI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IDROGENION (Acidosis)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BLETAS (Drog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-9360" y="765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66"/>
                </a:solidFill>
                <a:latin typeface="Times New Roman"/>
              </a:rPr>
              <a:t>ALGORITMO Durante R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2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 23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243" name="Picture 24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25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468360" y="4578480"/>
          <a:ext cx="3166920" cy="20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578480"/>
                    <a:ext cx="316692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-9360" y="952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Times New Roman"/>
              </a:rPr>
              <a:t>ALGORITMO UNI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859280" y="2457360"/>
            <a:ext cx="403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SEGURIDAD DEL REANIM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3916080" y="53737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00"/>
                </a:solidFill>
                <a:latin typeface="Arial"/>
              </a:rPr>
              <a:t>No genere nuevas victi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AHA Blue outline hero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7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61" name="Picture 18" descr="Logo Consejo Nacional de Resucitación"/>
            <p:cNvPicPr/>
            <p:nvPr/>
          </p:nvPicPr>
          <p:blipFill>
            <a:blip r:embed="rId4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19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21" descr="chest0017"/>
          <p:cNvPicPr/>
          <p:nvPr/>
        </p:nvPicPr>
        <p:blipFill>
          <a:blip r:embed="rId5"/>
          <a:srcRect l="2254" t="0" r="12015" b="5221"/>
          <a:stretch/>
        </p:blipFill>
        <p:spPr>
          <a:xfrm>
            <a:off x="468360" y="1828800"/>
            <a:ext cx="3600360" cy="26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764000" y="20808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Retorno a la Circulación Espont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588760" y="1125360"/>
            <a:ext cx="408816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ptimice ventilacion y oxige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04640" y="1963800"/>
            <a:ext cx="3980160" cy="1618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te la hipotension (&lt;90 mm 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olo IV/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fusión de vasopre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idere causas tra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CG 12 deriv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5223960" y="2084400"/>
            <a:ext cx="320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 o 2 l SF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opamina 5-10 mcg/kg/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oradrenalina 0,1 a 0,5 mcg/kg/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56400" y="4040280"/>
            <a:ext cx="24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ir Instru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041840" y="519264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MEST o sospecha I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360400" y="490392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perfusion cor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5481360" y="5840280"/>
            <a:ext cx="24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dados inten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2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3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255" name="Picture 14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15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6"/>
          <p:cNvSpPr/>
          <p:nvPr/>
        </p:nvSpPr>
        <p:spPr>
          <a:xfrm>
            <a:off x="5434920" y="396864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potermia indu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427640" y="62064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1763280" y="1268280"/>
            <a:ext cx="7923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1763640" y="1268280"/>
            <a:ext cx="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>
            <a:off x="2340000" y="3645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"/>
          <p:cNvSpPr/>
          <p:nvPr/>
        </p:nvSpPr>
        <p:spPr>
          <a:xfrm>
            <a:off x="2340000" y="4437000"/>
            <a:ext cx="0" cy="720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2"/>
          <p:cNvSpPr/>
          <p:nvPr/>
        </p:nvSpPr>
        <p:spPr>
          <a:xfrm>
            <a:off x="3924360" y="5373720"/>
            <a:ext cx="93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3"/>
          <p:cNvSpPr/>
          <p:nvPr/>
        </p:nvSpPr>
        <p:spPr>
          <a:xfrm>
            <a:off x="4859280" y="5157720"/>
            <a:ext cx="0" cy="935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4"/>
          <p:cNvSpPr/>
          <p:nvPr/>
        </p:nvSpPr>
        <p:spPr>
          <a:xfrm>
            <a:off x="4859280" y="5157720"/>
            <a:ext cx="5047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5"/>
          <p:cNvSpPr/>
          <p:nvPr/>
        </p:nvSpPr>
        <p:spPr>
          <a:xfrm>
            <a:off x="4859280" y="6093000"/>
            <a:ext cx="649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6"/>
          <p:cNvSpPr/>
          <p:nvPr/>
        </p:nvSpPr>
        <p:spPr>
          <a:xfrm>
            <a:off x="3708360" y="4221000"/>
            <a:ext cx="1584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7"/>
          <p:cNvSpPr/>
          <p:nvPr/>
        </p:nvSpPr>
        <p:spPr>
          <a:xfrm>
            <a:off x="4336560" y="3844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8"/>
          <p:cNvSpPr/>
          <p:nvPr/>
        </p:nvSpPr>
        <p:spPr>
          <a:xfrm>
            <a:off x="4912920" y="602136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9"/>
          <p:cNvSpPr/>
          <p:nvPr/>
        </p:nvSpPr>
        <p:spPr>
          <a:xfrm>
            <a:off x="1980720" y="463716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4933440" y="478008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4"/>
          <p:cNvSpPr/>
          <p:nvPr/>
        </p:nvSpPr>
        <p:spPr>
          <a:xfrm>
            <a:off x="1452600" y="189000"/>
            <a:ext cx="3551040" cy="946440"/>
          </a:xfrm>
          <a:prstGeom prst="rect">
            <a:avLst/>
          </a:prstGeom>
          <a:noFill/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66"/>
                </a:solidFill>
                <a:latin typeface="Arial"/>
              </a:rPr>
              <a:t>BRADICA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66"/>
                </a:solidFill>
                <a:latin typeface="Arial"/>
              </a:rPr>
              <a:t>FC&lt;50 e inadecuada para la condición clín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382680" y="1760400"/>
            <a:ext cx="4895640" cy="100656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Mantener vía aérea permeable, asistir la ventilación si es neces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porte oxi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Monitor / ECG (verifique ritm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Tensión arterial, oxi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Establezca un acceso 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83520" y="3048120"/>
            <a:ext cx="5505480" cy="5198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¿Signos y síntomas graves por bradicard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(Deterioro de conciencia, dolor de pecho, hipotensión u otros signos de sho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272880" y="3936960"/>
            <a:ext cx="5113440" cy="19530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ATROPINA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 0,5 mg. IV  C/ 3 a 5 minutos hasta3 m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 es inefic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MARCAPASO TRANSCUTAN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ADRENALINA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 2 a 10 mcg/m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DOPAMINA 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2 a 10 mcg/kg/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1105560" y="6076800"/>
            <a:ext cx="3449880" cy="6426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Busque marcapaso endoven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0000"/>
                </a:solidFill>
                <a:latin typeface="Arial"/>
              </a:rPr>
              <a:t>TRATE LAS CAU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5587200" y="5241960"/>
            <a:ext cx="3417840" cy="13424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RECUER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00"/>
                </a:solidFill>
                <a:latin typeface="Arial"/>
              </a:rPr>
              <a:t>Si sobreviene la parada cardíaca inicie protocol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00"/>
                </a:solidFill>
                <a:latin typeface="Arial"/>
              </a:rPr>
              <a:t>Busque y trate los factores predisponen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IPOXIA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ROMBOSIS CORON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IPOVOLEMIA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ROMBOSIS PULMON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IPO/HIPERKALEMIA      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ENSION NEUMOTORA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IPOTERMIA                    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APONAMIENTO CARDIA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IDROGENION (Acidosis) </a:t>
            </a:r>
            <a:r>
              <a:rPr b="1" lang="es-AR" sz="1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000" spc="-1" strike="noStrike">
                <a:solidFill>
                  <a:srgbClr val="ffffff"/>
                </a:solidFill>
                <a:latin typeface="Arial"/>
              </a:rPr>
              <a:t>ABLETAS (Droga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6377760" y="4424400"/>
            <a:ext cx="1995840" cy="36828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Observe /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7347960" y="36655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2845080" y="359892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AutoShape 23"/>
          <p:cNvCxnSpPr>
            <a:stCxn id="272" idx="2"/>
            <a:endCxn id="273" idx="0"/>
          </p:cNvCxnSpPr>
          <p:nvPr/>
        </p:nvCxnSpPr>
        <p:spPr>
          <a:xfrm flipH="1">
            <a:off x="2830320" y="1141200"/>
            <a:ext cx="398880" cy="619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2" name="AutoShape 24"/>
          <p:cNvCxnSpPr>
            <a:stCxn id="273" idx="2"/>
            <a:endCxn id="274" idx="0"/>
          </p:cNvCxnSpPr>
          <p:nvPr/>
        </p:nvCxnSpPr>
        <p:spPr>
          <a:xfrm>
            <a:off x="2830320" y="2771640"/>
            <a:ext cx="6840" cy="277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3" name="AutoShape 25"/>
          <p:cNvCxnSpPr>
            <a:stCxn id="274" idx="2"/>
            <a:endCxn id="275" idx="0"/>
          </p:cNvCxnSpPr>
          <p:nvPr/>
        </p:nvCxnSpPr>
        <p:spPr>
          <a:xfrm flipH="1">
            <a:off x="2829960" y="3573360"/>
            <a:ext cx="6840" cy="364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4" name="AutoShape 26"/>
          <p:cNvCxnSpPr>
            <a:stCxn id="275" idx="2"/>
            <a:endCxn id="276" idx="0"/>
          </p:cNvCxnSpPr>
          <p:nvPr/>
        </p:nvCxnSpPr>
        <p:spPr>
          <a:xfrm>
            <a:off x="2830320" y="5896080"/>
            <a:ext cx="1080" cy="181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5" name="AutoShape 27"/>
          <p:cNvCxnSpPr>
            <a:stCxn id="274" idx="3"/>
            <a:endCxn id="278" idx="0"/>
          </p:cNvCxnSpPr>
          <p:nvPr/>
        </p:nvCxnSpPr>
        <p:spPr>
          <a:xfrm>
            <a:off x="5573520" y="3311280"/>
            <a:ext cx="1802520" cy="111312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86" name="Picture 28" descr=""/>
          <p:cNvPicPr/>
          <p:nvPr/>
        </p:nvPicPr>
        <p:blipFill>
          <a:blip r:embed="rId1"/>
          <a:stretch/>
        </p:blipFill>
        <p:spPr>
          <a:xfrm>
            <a:off x="5454720" y="1725480"/>
            <a:ext cx="3581280" cy="10098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87" name="Picture 36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37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289" name="Picture 38" descr="Logo Consejo Nacional de Resucitación"/>
            <p:cNvPicPr/>
            <p:nvPr/>
          </p:nvPicPr>
          <p:blipFill>
            <a:blip r:embed="rId3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39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867040" y="990720"/>
            <a:ext cx="34034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Adrenal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9372600" cy="28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osis infusión: 2 a 10 gama/m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mp: 1 mg/ml = 1000 g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11880" y="7920"/>
            <a:ext cx="1355760" cy="966960"/>
            <a:chOff x="11880" y="7920"/>
            <a:chExt cx="1355760" cy="966960"/>
          </a:xfrm>
        </p:grpSpPr>
        <p:pic>
          <p:nvPicPr>
            <p:cNvPr id="294" name="Picture 7" descr="Logo Consejo Nacional de Resucitación"/>
            <p:cNvPicPr/>
            <p:nvPr/>
          </p:nvPicPr>
          <p:blipFill>
            <a:blip r:embed="rId1"/>
            <a:srcRect l="0" t="-311" r="0" b="27232"/>
            <a:stretch/>
          </p:blipFill>
          <p:spPr>
            <a:xfrm>
              <a:off x="239760" y="792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Text Box 8"/>
            <p:cNvSpPr/>
            <p:nvPr/>
          </p:nvSpPr>
          <p:spPr>
            <a:xfrm>
              <a:off x="11880" y="54612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Picture 10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517480" y="762120"/>
            <a:ext cx="40892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Prepa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5 amp/500ml DA/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5000 gamas -------- 5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500 gamas --------  5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50  gamas --------    5 m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0  gamas --------    1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60 microgotas -------- 1 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1 ml = 20 macro gotas = 60 microg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6"/>
          <p:cNvGrpSpPr/>
          <p:nvPr/>
        </p:nvGrpSpPr>
        <p:grpSpPr>
          <a:xfrm>
            <a:off x="11880" y="7920"/>
            <a:ext cx="1355760" cy="966960"/>
            <a:chOff x="11880" y="7920"/>
            <a:chExt cx="1355760" cy="966960"/>
          </a:xfrm>
        </p:grpSpPr>
        <p:pic>
          <p:nvPicPr>
            <p:cNvPr id="300" name="Picture 7" descr="Logo Consejo Nacional de Resucitación"/>
            <p:cNvPicPr/>
            <p:nvPr/>
          </p:nvPicPr>
          <p:blipFill>
            <a:blip r:embed="rId1"/>
            <a:srcRect l="0" t="-311" r="0" b="27232"/>
            <a:stretch/>
          </p:blipFill>
          <p:spPr>
            <a:xfrm>
              <a:off x="239760" y="792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"/>
            <p:cNvSpPr/>
            <p:nvPr/>
          </p:nvSpPr>
          <p:spPr>
            <a:xfrm>
              <a:off x="11880" y="54612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2" name="Picture 10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080" y="837720"/>
            <a:ext cx="3098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0920" y="2282400"/>
            <a:ext cx="6670440" cy="30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osis: 2 a 10 gama/kg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mp: 100  y 200 mg</a:t>
            </a: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533520" y="50734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Times New Roman"/>
              </a:rPr>
              <a:t>1 mg = 1000 gamas = 1000 micro gr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7"/>
          <p:cNvGrpSpPr/>
          <p:nvPr/>
        </p:nvGrpSpPr>
        <p:grpSpPr>
          <a:xfrm>
            <a:off x="11880" y="7920"/>
            <a:ext cx="1355760" cy="966960"/>
            <a:chOff x="11880" y="7920"/>
            <a:chExt cx="1355760" cy="966960"/>
          </a:xfrm>
        </p:grpSpPr>
        <p:pic>
          <p:nvPicPr>
            <p:cNvPr id="307" name="Picture 8" descr="Logo Consejo Nacional de Resucitación"/>
            <p:cNvPicPr/>
            <p:nvPr/>
          </p:nvPicPr>
          <p:blipFill>
            <a:blip r:embed="rId1"/>
            <a:srcRect l="0" t="-311" r="0" b="27232"/>
            <a:stretch/>
          </p:blipFill>
          <p:spPr>
            <a:xfrm>
              <a:off x="239760" y="792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 Box 9"/>
            <p:cNvSpPr/>
            <p:nvPr/>
          </p:nvSpPr>
          <p:spPr>
            <a:xfrm>
              <a:off x="11880" y="54612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1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Preparación goteo dopam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52280" y="2209680"/>
            <a:ext cx="89917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Objetivo: solución 1 en 1 = 1 mg en un 1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1 amp. 100mg. / 100ml D5%= 1000 gamas/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1 amp. 200mg. / 200ml D5%=  1000 gamas/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1000 gamas en un 1 ml = 20 gotas = 60 micro g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Logo Consejo Nacional de Resucitación"/>
          <p:cNvPicPr/>
          <p:nvPr/>
        </p:nvPicPr>
        <p:blipFill>
          <a:blip r:embed="rId1"/>
          <a:srcRect l="0" t="-311" r="0" b="27232"/>
          <a:stretch/>
        </p:blipFill>
        <p:spPr>
          <a:xfrm>
            <a:off x="239760" y="7920"/>
            <a:ext cx="861840" cy="593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8"/>
          <p:cNvSpPr/>
          <p:nvPr/>
        </p:nvSpPr>
        <p:spPr>
          <a:xfrm>
            <a:off x="11880" y="546120"/>
            <a:ext cx="13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ffffff"/>
                </a:solidFill>
                <a:latin typeface="Arial"/>
              </a:rPr>
              <a:t>Consejo Nacion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100" spc="-1" strike="noStrike">
                <a:solidFill>
                  <a:srgbClr val="ffffff"/>
                </a:solidFill>
                <a:latin typeface="Arial"/>
              </a:rPr>
              <a:t>de Resucit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0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</a:rPr>
              <a:t>Preparación goteo dopam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70 kg  x  10 gamas = 700 g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000 gamas -------- 60 micro g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8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700 gamas --------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42 micro g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"/>
          <p:cNvGrpSpPr/>
          <p:nvPr/>
        </p:nvGrpSpPr>
        <p:grpSpPr>
          <a:xfrm>
            <a:off x="11880" y="7920"/>
            <a:ext cx="1355760" cy="966960"/>
            <a:chOff x="11880" y="7920"/>
            <a:chExt cx="1355760" cy="966960"/>
          </a:xfrm>
        </p:grpSpPr>
        <p:pic>
          <p:nvPicPr>
            <p:cNvPr id="318" name="Picture 7" descr="Logo Consejo Nacional de Resucitación"/>
            <p:cNvPicPr/>
            <p:nvPr/>
          </p:nvPicPr>
          <p:blipFill>
            <a:blip r:embed="rId1"/>
            <a:srcRect l="0" t="-311" r="0" b="27232"/>
            <a:stretch/>
          </p:blipFill>
          <p:spPr>
            <a:xfrm>
              <a:off x="239760" y="792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8"/>
            <p:cNvSpPr/>
            <p:nvPr/>
          </p:nvSpPr>
          <p:spPr>
            <a:xfrm>
              <a:off x="11880" y="54612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0" name="Picture 10" descr="AHA Blue outline hero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452600" y="704880"/>
            <a:ext cx="2755800" cy="642600"/>
          </a:xfrm>
          <a:prstGeom prst="rect">
            <a:avLst/>
          </a:prstGeom>
          <a:noFill/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con pu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82680" y="1557360"/>
            <a:ext cx="4895640" cy="100656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Mantener vía aérea permeable, asistir la ventilación si es neces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porte oxig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Monitor / ECG (verifique ritm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Tensión arterial, oximetr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Identifique y trate causas revers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AutoShape 4"/>
          <p:cNvCxnSpPr>
            <a:stCxn id="321" idx="2"/>
            <a:endCxn id="322" idx="0"/>
          </p:cNvCxnSpPr>
          <p:nvPr/>
        </p:nvCxnSpPr>
        <p:spPr>
          <a:xfrm>
            <a:off x="2830320" y="1352160"/>
            <a:ext cx="1080" cy="205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4" name="Text Box 5"/>
          <p:cNvSpPr/>
          <p:nvPr/>
        </p:nvSpPr>
        <p:spPr>
          <a:xfrm>
            <a:off x="83520" y="2819520"/>
            <a:ext cx="5505480" cy="5198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¿Signos y síntomas graves por taquicard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(Deterioro de conciencia, dolor de pecho, hipotensión u otros signos de sho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6"/>
          <p:cNvCxnSpPr>
            <a:stCxn id="322" idx="2"/>
            <a:endCxn id="324" idx="0"/>
          </p:cNvCxnSpPr>
          <p:nvPr/>
        </p:nvCxnSpPr>
        <p:spPr>
          <a:xfrm>
            <a:off x="2830320" y="2568240"/>
            <a:ext cx="6840" cy="25164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6" name="Text Box 7"/>
          <p:cNvSpPr/>
          <p:nvPr/>
        </p:nvSpPr>
        <p:spPr>
          <a:xfrm>
            <a:off x="6874920" y="2681280"/>
            <a:ext cx="1971360" cy="7938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CARDIO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SINCRONIZ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cceso IV y Sed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AutoShape 8"/>
          <p:cNvCxnSpPr>
            <a:stCxn id="324" idx="3"/>
            <a:endCxn id="326" idx="1"/>
          </p:cNvCxnSpPr>
          <p:nvPr/>
        </p:nvCxnSpPr>
        <p:spPr>
          <a:xfrm flipV="1">
            <a:off x="5573880" y="3080520"/>
            <a:ext cx="1303920" cy="252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8" name="Text Box 9"/>
          <p:cNvSpPr/>
          <p:nvPr/>
        </p:nvSpPr>
        <p:spPr>
          <a:xfrm>
            <a:off x="3737880" y="3890880"/>
            <a:ext cx="1658880" cy="733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Acceso I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Obtenga ECG 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etermine el ritm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485040" y="5143680"/>
            <a:ext cx="1698480" cy="337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QRS ANG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66760" y="5143680"/>
            <a:ext cx="1418040" cy="337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QRS AN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12"/>
          <p:cNvGraphicFramePr/>
          <p:nvPr/>
        </p:nvGraphicFramePr>
        <p:xfrm>
          <a:off x="5608800" y="5570640"/>
          <a:ext cx="3284280" cy="83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8800" y="5570640"/>
                    <a:ext cx="3284280" cy="830160"/>
                  </a:xfrm>
                  <a:prstGeom prst="rect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33" name="Object 13"/>
          <p:cNvGraphicFramePr/>
          <p:nvPr/>
        </p:nvGraphicFramePr>
        <p:xfrm>
          <a:off x="468360" y="5576760"/>
          <a:ext cx="2644560" cy="82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576760"/>
                    <a:ext cx="2644560" cy="824040"/>
                  </a:xfrm>
                  <a:prstGeom prst="rect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335" name="AutoShape 14"/>
          <p:cNvCxnSpPr>
            <a:stCxn id="324" idx="2"/>
            <a:endCxn id="328" idx="0"/>
          </p:cNvCxnSpPr>
          <p:nvPr/>
        </p:nvCxnSpPr>
        <p:spPr>
          <a:xfrm>
            <a:off x="2836440" y="3344400"/>
            <a:ext cx="1731240" cy="546480"/>
          </a:xfrm>
          <a:prstGeom prst="straightConnector1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6" name="AutoShape 15"/>
          <p:cNvCxnSpPr>
            <a:stCxn id="328" idx="2"/>
            <a:endCxn id="329" idx="1"/>
          </p:cNvCxnSpPr>
          <p:nvPr/>
        </p:nvCxnSpPr>
        <p:spPr>
          <a:xfrm flipH="1" rot="16200000">
            <a:off x="5177520" y="4016160"/>
            <a:ext cx="687960" cy="191052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37" name="AutoShape 16"/>
          <p:cNvCxnSpPr>
            <a:stCxn id="328" idx="2"/>
            <a:endCxn id="330" idx="3"/>
          </p:cNvCxnSpPr>
          <p:nvPr/>
        </p:nvCxnSpPr>
        <p:spPr>
          <a:xfrm rot="5400000">
            <a:off x="3234960" y="3983040"/>
            <a:ext cx="687960" cy="197712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8" name="Rectangle 17"/>
          <p:cNvSpPr/>
          <p:nvPr/>
        </p:nvSpPr>
        <p:spPr>
          <a:xfrm>
            <a:off x="2737440" y="498312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QRS &gt; 0,12 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8"/>
          <p:cNvSpPr/>
          <p:nvPr/>
        </p:nvSpPr>
        <p:spPr>
          <a:xfrm>
            <a:off x="4694760" y="498168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QRS &lt; 0,12 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9"/>
          <p:cNvSpPr/>
          <p:nvPr/>
        </p:nvSpPr>
        <p:spPr>
          <a:xfrm>
            <a:off x="5574600" y="2743200"/>
            <a:ext cx="132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NE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0"/>
          <p:cNvSpPr/>
          <p:nvPr/>
        </p:nvSpPr>
        <p:spPr>
          <a:xfrm>
            <a:off x="2543760" y="351936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E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21" descr="AHA Blue outline hero"/>
          <p:cNvPicPr/>
          <p:nvPr/>
        </p:nvPicPr>
        <p:blipFill>
          <a:blip r:embed="rId5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343" name="Group 22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344" name="Picture 23" descr="Logo Consejo Nacional de Resucitación"/>
            <p:cNvPicPr/>
            <p:nvPr/>
          </p:nvPicPr>
          <p:blipFill>
            <a:blip r:embed="rId6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Text Box 24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3 Imagen" descr="_Sin(3)"/>
          <p:cNvPicPr/>
          <p:nvPr/>
        </p:nvPicPr>
        <p:blipFill>
          <a:blip r:embed="rId7"/>
          <a:stretch/>
        </p:blipFill>
        <p:spPr>
          <a:xfrm>
            <a:off x="5724360" y="1125360"/>
            <a:ext cx="1225800" cy="73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187800" y="590400"/>
            <a:ext cx="2755800" cy="642600"/>
          </a:xfrm>
          <a:prstGeom prst="rect">
            <a:avLst/>
          </a:prstGeom>
          <a:noFill/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con pu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3"/>
          <p:cNvCxnSpPr>
            <a:stCxn id="347" idx="2"/>
          </p:cNvCxnSpPr>
          <p:nvPr/>
        </p:nvCxnSpPr>
        <p:spPr>
          <a:xfrm>
            <a:off x="4565160" y="1238400"/>
            <a:ext cx="1080" cy="205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9" name="Text Box 4"/>
          <p:cNvSpPr/>
          <p:nvPr/>
        </p:nvSpPr>
        <p:spPr>
          <a:xfrm>
            <a:off x="3722760" y="1447920"/>
            <a:ext cx="1698480" cy="337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QRS ANG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6091200" y="1909800"/>
            <a:ext cx="2913120" cy="9457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0000"/>
                </a:solidFill>
                <a:latin typeface="Arial"/>
              </a:rPr>
              <a:t>Taquicardia Irregular de complejo Ang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Probable FA, AA, 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Trate con (Diltiazem o β-bloquean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52280" y="1914480"/>
            <a:ext cx="3160800" cy="8240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Intente maniobras vag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00"/>
                </a:solidFill>
                <a:latin typeface="Arial"/>
              </a:rPr>
              <a:t>ADENOSINA 6 MG. IV (BOLO RÁPIDO).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Si no cardiovierte administre 12 mg. Puede administrarse una segunda dosis de 12 m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2849400" y="3314880"/>
            <a:ext cx="3446640" cy="337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¿El ritmo CARDIOVIER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152280" y="4076640"/>
            <a:ext cx="3446640" cy="100656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Probablemente es TSV por reentr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OBSERVE si recur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Trate las recurrencias con adenosina o agentes bloqueantes AV de mayor duración (Bloqueantes calcicos o β-bloquean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5348160" y="4262400"/>
            <a:ext cx="3581640" cy="8240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Probablemente es AA, Taquicardia Auricular Ectópica o de la Un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Controle la frecuencia (diltiazem, ß bloquean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Trate las causas subyac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809640" y="5362560"/>
            <a:ext cx="7532640" cy="143316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BLOQUEANTES CÁLCIC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VERAPAMILO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2.5 – 5 mg/EV en 2 min, luego si no responde 5-10 mg cada 15 a 30 min. Dmax 30 m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DILTIAZEM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0.25mg/kg en 2 min, luego si es necesario 0.35 mg/kg en 15 min. Dosis infusión 5-15 mg/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ß BLOQUEA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ATENOLOL 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5mg/EV en 5 min, se puede repet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Arial"/>
              </a:rPr>
              <a:t>METOPROLOL</a:t>
            </a: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  5 mg/EV cada 5 min hasta 15m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AutoShape 11"/>
          <p:cNvCxnSpPr>
            <a:stCxn id="349" idx="3"/>
            <a:endCxn id="350" idx="0"/>
          </p:cNvCxnSpPr>
          <p:nvPr/>
        </p:nvCxnSpPr>
        <p:spPr>
          <a:xfrm>
            <a:off x="5428800" y="1618920"/>
            <a:ext cx="2120040" cy="29124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57" name="AutoShape 12"/>
          <p:cNvCxnSpPr>
            <a:stCxn id="349" idx="1"/>
            <a:endCxn id="351" idx="0"/>
          </p:cNvCxnSpPr>
          <p:nvPr/>
        </p:nvCxnSpPr>
        <p:spPr>
          <a:xfrm flipV="1" rot="10800000">
            <a:off x="1732680" y="1619280"/>
            <a:ext cx="1982160" cy="29556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58" name="Rectangle 13"/>
          <p:cNvSpPr/>
          <p:nvPr/>
        </p:nvSpPr>
        <p:spPr>
          <a:xfrm>
            <a:off x="2287800" y="13399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5902920" y="13399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AutoShape 15"/>
          <p:cNvCxnSpPr>
            <a:stCxn id="351" idx="3"/>
            <a:endCxn id="352" idx="0"/>
          </p:cNvCxnSpPr>
          <p:nvPr/>
        </p:nvCxnSpPr>
        <p:spPr>
          <a:xfrm>
            <a:off x="3312720" y="2328480"/>
            <a:ext cx="1261080" cy="98676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1" name="AutoShape 16"/>
          <p:cNvCxnSpPr>
            <a:stCxn id="352" idx="3"/>
            <a:endCxn id="354" idx="0"/>
          </p:cNvCxnSpPr>
          <p:nvPr/>
        </p:nvCxnSpPr>
        <p:spPr>
          <a:xfrm>
            <a:off x="6296040" y="3486240"/>
            <a:ext cx="843840" cy="77688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62" name="AutoShape 17"/>
          <p:cNvCxnSpPr>
            <a:stCxn id="352" idx="1"/>
            <a:endCxn id="353" idx="0"/>
          </p:cNvCxnSpPr>
          <p:nvPr/>
        </p:nvCxnSpPr>
        <p:spPr>
          <a:xfrm flipV="1" rot="10800000">
            <a:off x="1875600" y="3485880"/>
            <a:ext cx="973800" cy="59112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63" name="Rectangle 18"/>
          <p:cNvSpPr/>
          <p:nvPr/>
        </p:nvSpPr>
        <p:spPr>
          <a:xfrm>
            <a:off x="2211480" y="3473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9"/>
          <p:cNvSpPr/>
          <p:nvPr/>
        </p:nvSpPr>
        <p:spPr>
          <a:xfrm>
            <a:off x="6523920" y="347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0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21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367" name="Picture 22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23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3 Imagen" descr="_Sin(3)"/>
          <p:cNvPicPr/>
          <p:nvPr/>
        </p:nvPicPr>
        <p:blipFill>
          <a:blip r:embed="rId3"/>
          <a:stretch/>
        </p:blipFill>
        <p:spPr>
          <a:xfrm>
            <a:off x="3851280" y="4221000"/>
            <a:ext cx="1225440" cy="73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3187800" y="590400"/>
            <a:ext cx="2755800" cy="642600"/>
          </a:xfrm>
          <a:prstGeom prst="rect">
            <a:avLst/>
          </a:prstGeom>
          <a:noFill/>
          <a:ln w="64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66"/>
                </a:solidFill>
                <a:latin typeface="Arial"/>
              </a:rPr>
              <a:t>con pu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3"/>
          <p:cNvCxnSpPr>
            <a:stCxn id="370" idx="2"/>
          </p:cNvCxnSpPr>
          <p:nvPr/>
        </p:nvCxnSpPr>
        <p:spPr>
          <a:xfrm>
            <a:off x="4565160" y="1238400"/>
            <a:ext cx="1080" cy="205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72" name="Text Box 4"/>
          <p:cNvSpPr/>
          <p:nvPr/>
        </p:nvSpPr>
        <p:spPr>
          <a:xfrm>
            <a:off x="3862080" y="1447920"/>
            <a:ext cx="1418040" cy="3373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QRS AN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6091200" y="1909800"/>
            <a:ext cx="2913120" cy="261900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FA con Aberra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(Diltiazem o β-bloquean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FA + Preexitación (WP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Evite los agentes bloqueantes AV (adenosina, Digoxina, Diltiazem, Verapamilo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CONSIDERE </a:t>
            </a: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AMIODARONA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150 MG. IV EN 10 MINU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Taquicardia ventricular polimorfica (Torsades de Poi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Magnesio 1-2 gr IV. En 5 a 60 minu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152280" y="1914480"/>
            <a:ext cx="3160800" cy="219312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Taquicardia ventricular o ritmo indetermin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AMIODARONA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150 MG. IV EN 10 MINUTOS, REPETIR SI ES NECESARIO HASTA 2,2 GR. / 24 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PREPARE CARDIOVERSION ELÉCTRICA SINCRONIZ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00"/>
                </a:solidFill>
                <a:latin typeface="Arial"/>
              </a:rPr>
              <a:t>Taquicardia Supraventricular con aberra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denos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AutoShape 7"/>
          <p:cNvCxnSpPr>
            <a:stCxn id="372" idx="3"/>
            <a:endCxn id="373" idx="0"/>
          </p:cNvCxnSpPr>
          <p:nvPr/>
        </p:nvCxnSpPr>
        <p:spPr>
          <a:xfrm>
            <a:off x="5286240" y="1618920"/>
            <a:ext cx="2262960" cy="29124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76" name="AutoShape 8"/>
          <p:cNvCxnSpPr>
            <a:stCxn id="372" idx="1"/>
            <a:endCxn id="374" idx="0"/>
          </p:cNvCxnSpPr>
          <p:nvPr/>
        </p:nvCxnSpPr>
        <p:spPr>
          <a:xfrm flipV="1" rot="10800000">
            <a:off x="1732680" y="1619280"/>
            <a:ext cx="2123280" cy="295560"/>
          </a:xfrm>
          <a:prstGeom prst="bentConnector2">
            <a:avLst/>
          </a:prstGeom>
          <a:ln w="64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77" name="Rectangle 9"/>
          <p:cNvSpPr/>
          <p:nvPr/>
        </p:nvSpPr>
        <p:spPr>
          <a:xfrm>
            <a:off x="2287800" y="133992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5902920" y="13399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I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057400" y="4645080"/>
            <a:ext cx="4800600" cy="194976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0000"/>
                </a:solidFill>
                <a:latin typeface="Arial"/>
              </a:rPr>
              <a:t>Durante la evaluación de las taquicardias con puls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00"/>
                </a:solidFill>
                <a:latin typeface="Arial"/>
              </a:rPr>
              <a:t>Verifique la vía aérea, coloque acceso 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00"/>
                </a:solidFill>
                <a:latin typeface="Arial"/>
              </a:rPr>
              <a:t>Considere la consulta a un exper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00"/>
                </a:solidFill>
                <a:latin typeface="Arial"/>
              </a:rPr>
              <a:t>Preparese para la cardiovers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ff00"/>
                </a:solidFill>
                <a:latin typeface="Arial"/>
              </a:rPr>
              <a:t>Busque y trate los factores desencadenan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IPOXIA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ROMBOSIS CORON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IPOVOLEMIA                  </a:t>
            </a: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ROMBOSIS PULM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IPO/HIPERKALEMIA       </a:t>
            </a: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ENSION NEUMOTOR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IPOTERMIA                     </a:t>
            </a: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PONAMIENTO CARDIA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IDROGENION (Acidosis) </a:t>
            </a:r>
            <a:r>
              <a:rPr b="1" lang="es-AR" sz="1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ABLETAS (Dro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2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13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382" name="Picture 14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15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3 Imagen" descr="_Sin(3)"/>
          <p:cNvPicPr/>
          <p:nvPr/>
        </p:nvPicPr>
        <p:blipFill>
          <a:blip r:embed="rId3"/>
          <a:stretch/>
        </p:blipFill>
        <p:spPr>
          <a:xfrm>
            <a:off x="7918560" y="6124680"/>
            <a:ext cx="1225440" cy="73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5"/>
          <p:cNvSpPr/>
          <p:nvPr/>
        </p:nvSpPr>
        <p:spPr>
          <a:xfrm>
            <a:off x="-9360" y="952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Times New Roman"/>
              </a:rPr>
              <a:t>ALGORITMO UNI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8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67" name="Picture 19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20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5" descr="1-Rescuer CPR Demo_0001"/>
          <p:cNvPicPr/>
          <p:nvPr/>
        </p:nvPicPr>
        <p:blipFill>
          <a:blip r:embed="rId3"/>
          <a:stretch/>
        </p:blipFill>
        <p:spPr>
          <a:xfrm>
            <a:off x="324000" y="1916280"/>
            <a:ext cx="5616360" cy="4217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5003640" y="4695840"/>
            <a:ext cx="3810240" cy="19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Determinar el estado de la concienc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2"/>
          <p:cNvSpPr/>
          <p:nvPr/>
        </p:nvSpPr>
        <p:spPr>
          <a:xfrm>
            <a:off x="360360" y="196524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ffff"/>
                </a:solidFill>
                <a:latin typeface="Arial"/>
              </a:rPr>
              <a:t>LA REANIMACIÓN CEREBRAL ES LA META MAS IMPORTA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0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387" name="Group 21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388" name="Picture 22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23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12"/>
          <p:cNvSpPr/>
          <p:nvPr/>
        </p:nvSpPr>
        <p:spPr>
          <a:xfrm>
            <a:off x="380880" y="1981080"/>
            <a:ext cx="8425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PARA MUCHAS PERSONAS, EL ÚLTIMO LATIDO DE SU CORAZÓN DEBE SER EL ÚLTIMO DE SU VID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0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392" name="Group 21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393" name="Picture 22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23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"/>
          <p:cNvSpPr/>
          <p:nvPr/>
        </p:nvSpPr>
        <p:spPr>
          <a:xfrm>
            <a:off x="4356000" y="2276640"/>
            <a:ext cx="381024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Arial"/>
              </a:rPr>
              <a:t>Activar el sistema de emergenci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I-2"/>
          <p:cNvPicPr/>
          <p:nvPr/>
        </p:nvPicPr>
        <p:blipFill>
          <a:blip r:embed="rId1"/>
          <a:stretch/>
        </p:blipFill>
        <p:spPr>
          <a:xfrm>
            <a:off x="660240" y="1916280"/>
            <a:ext cx="2781360" cy="436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Object 15"/>
          <p:cNvGraphicFramePr/>
          <p:nvPr/>
        </p:nvGraphicFramePr>
        <p:xfrm>
          <a:off x="3995640" y="1909800"/>
          <a:ext cx="4572000" cy="30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5640" y="1909800"/>
                    <a:ext cx="4572000" cy="3017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5" name="Rectangle 16"/>
          <p:cNvSpPr/>
          <p:nvPr/>
        </p:nvSpPr>
        <p:spPr>
          <a:xfrm>
            <a:off x="4356000" y="5105520"/>
            <a:ext cx="381024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9cc00"/>
                </a:solidFill>
                <a:latin typeface="Arial"/>
              </a:rPr>
              <a:t>Usted llame a……..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-9360" y="952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Times New Roman"/>
              </a:rPr>
              <a:t>ALGORITMO UNI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AHA Blue outline hero"/>
          <p:cNvPicPr/>
          <p:nvPr/>
        </p:nvPicPr>
        <p:blipFill>
          <a:blip r:embed="rId4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20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79" name="Picture 21" descr="Logo Consejo Nacional de Resucitación"/>
            <p:cNvPicPr/>
            <p:nvPr/>
          </p:nvPicPr>
          <p:blipFill>
            <a:blip r:embed="rId5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22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8"/>
          <p:cNvSpPr/>
          <p:nvPr/>
        </p:nvSpPr>
        <p:spPr>
          <a:xfrm>
            <a:off x="1552680" y="5819760"/>
            <a:ext cx="3090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ircul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942840" y="59720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81080" y="5591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076720" y="4869000"/>
            <a:ext cx="342108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nicie compresiones torácic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255680" y="4581360"/>
            <a:ext cx="2365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Verifique el puls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-9360" y="952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Times New Roman"/>
              </a:rPr>
              <a:t>ALGORITMO UNI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1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22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89" name="Picture 23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24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Compresiones.wmv" descr=""/>
          <p:cNvPicPr/>
          <p:nvPr/>
        </p:nvPicPr>
        <p:blipFill>
          <a:blip r:embed="rId3"/>
          <a:stretch/>
        </p:blipFill>
        <p:spPr>
          <a:xfrm>
            <a:off x="4789440" y="1773360"/>
            <a:ext cx="4103640" cy="3078000"/>
          </a:xfrm>
          <a:prstGeom prst="rect">
            <a:avLst/>
          </a:prstGeom>
          <a:ln w="0">
            <a:noFill/>
          </a:ln>
        </p:spPr>
      </p:pic>
      <p:pic>
        <p:nvPicPr>
          <p:cNvPr id="92" name="tomo pulso.wmv" descr=""/>
          <p:cNvPicPr/>
          <p:nvPr/>
        </p:nvPicPr>
        <p:blipFill>
          <a:blip r:embed="rId4"/>
          <a:stretch/>
        </p:blipFill>
        <p:spPr>
          <a:xfrm>
            <a:off x="539640" y="177336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5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1547640" y="6021360"/>
            <a:ext cx="3529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Ventila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944640" y="61880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82520" y="5807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Case1-17a"/>
          <p:cNvPicPr/>
          <p:nvPr/>
        </p:nvPicPr>
        <p:blipFill>
          <a:blip r:embed="rId1"/>
          <a:srcRect l="0" t="2048" r="0" b="0"/>
          <a:stretch/>
        </p:blipFill>
        <p:spPr>
          <a:xfrm>
            <a:off x="4930920" y="5089680"/>
            <a:ext cx="1728720" cy="1496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7" name="Picture 15" descr="rcp2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6804000" y="5091120"/>
            <a:ext cx="1800360" cy="1506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8" name="Text Box 21"/>
          <p:cNvSpPr/>
          <p:nvPr/>
        </p:nvSpPr>
        <p:spPr>
          <a:xfrm>
            <a:off x="-9360" y="952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Times New Roman"/>
              </a:rPr>
              <a:t>ALGORITMO UNI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" descr="AHA Blue outline hero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24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101" name="Picture 25" descr="Logo Consejo Nacional de Resucitación"/>
            <p:cNvPicPr/>
            <p:nvPr/>
          </p:nvPicPr>
          <p:blipFill>
            <a:blip r:embed="rId4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26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2 Respiraciones con mascara.wmv" descr=""/>
          <p:cNvPicPr/>
          <p:nvPr/>
        </p:nvPicPr>
        <p:blipFill>
          <a:blip r:embed="rId5"/>
          <a:stretch/>
        </p:blipFill>
        <p:spPr>
          <a:xfrm>
            <a:off x="324000" y="1628640"/>
            <a:ext cx="4248000" cy="3240360"/>
          </a:xfrm>
          <a:prstGeom prst="rect">
            <a:avLst/>
          </a:prstGeom>
          <a:ln w="0">
            <a:noFill/>
          </a:ln>
        </p:spPr>
      </p:pic>
      <p:pic>
        <p:nvPicPr>
          <p:cNvPr id="104" name="2 Ventilaciones.wmv" descr=""/>
          <p:cNvPicPr/>
          <p:nvPr/>
        </p:nvPicPr>
        <p:blipFill>
          <a:blip r:embed="rId6"/>
          <a:stretch/>
        </p:blipFill>
        <p:spPr>
          <a:xfrm>
            <a:off x="4572000" y="1628640"/>
            <a:ext cx="4321080" cy="3240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3"/>
          <p:cNvSpPr/>
          <p:nvPr/>
        </p:nvSpPr>
        <p:spPr>
          <a:xfrm>
            <a:off x="539640" y="49417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uministre dos ventila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CP 302.wmv" descr=""/>
          <p:cNvPicPr/>
          <p:nvPr/>
        </p:nvPicPr>
        <p:blipFill>
          <a:blip r:embed="rId1"/>
          <a:stretch/>
        </p:blipFill>
        <p:spPr>
          <a:xfrm>
            <a:off x="179280" y="1676520"/>
            <a:ext cx="5688000" cy="4265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-9360" y="952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Times New Roman"/>
              </a:rPr>
              <a:t>ALGORITMO UNI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AHA Blue outline hero"/>
          <p:cNvPicPr/>
          <p:nvPr/>
        </p:nvPicPr>
        <p:blipFill>
          <a:blip r:embed="rId2"/>
          <a:stretch/>
        </p:blipFill>
        <p:spPr>
          <a:xfrm>
            <a:off x="734364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"/>
          <p:cNvGrpSpPr/>
          <p:nvPr/>
        </p:nvGrpSpPr>
        <p:grpSpPr>
          <a:xfrm>
            <a:off x="35640" y="0"/>
            <a:ext cx="1355760" cy="966960"/>
            <a:chOff x="35640" y="0"/>
            <a:chExt cx="1355760" cy="966960"/>
          </a:xfrm>
        </p:grpSpPr>
        <p:pic>
          <p:nvPicPr>
            <p:cNvPr id="110" name="Picture 7" descr="Logo Consejo Nacional de Resucitación"/>
            <p:cNvPicPr/>
            <p:nvPr/>
          </p:nvPicPr>
          <p:blipFill>
            <a:blip r:embed="rId3"/>
            <a:srcRect l="0" t="-311" r="0" b="27232"/>
            <a:stretch/>
          </p:blipFill>
          <p:spPr>
            <a:xfrm>
              <a:off x="26352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3564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Rectangle 10"/>
          <p:cNvSpPr/>
          <p:nvPr/>
        </p:nvSpPr>
        <p:spPr>
          <a:xfrm>
            <a:off x="684360" y="6093000"/>
            <a:ext cx="8208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0 compresiones : 2 ventil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5978520" y="2789280"/>
            <a:ext cx="27702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5 cicl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de 30: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ffff"/>
                </a:solidFill>
                <a:latin typeface="Arial"/>
              </a:rPr>
              <a:t>2 min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50880" y="5819760"/>
            <a:ext cx="3594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Arial"/>
              </a:rPr>
              <a:t>Desfibril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941400" y="597204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3300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79280" y="55911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572000" y="4498920"/>
            <a:ext cx="3809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valúe el ritm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6"/>
          <p:cNvGraphicFramePr/>
          <p:nvPr/>
        </p:nvGraphicFramePr>
        <p:xfrm>
          <a:off x="1763640" y="2060640"/>
          <a:ext cx="2795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060640"/>
                    <a:ext cx="2795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7"/>
          <p:cNvSpPr/>
          <p:nvPr/>
        </p:nvSpPr>
        <p:spPr>
          <a:xfrm>
            <a:off x="4572000" y="2565360"/>
            <a:ext cx="3787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ije el monitor   desfibrilad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-9360" y="952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ff66"/>
                </a:solidFill>
                <a:latin typeface="Times New Roman"/>
              </a:rPr>
              <a:t>ALGORITMO UNIVER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5" descr="AHA Blue outline hero"/>
          <p:cNvPicPr/>
          <p:nvPr/>
        </p:nvPicPr>
        <p:blipFill>
          <a:blip r:embed="rId3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26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124" name="Picture 27" descr="Logo Consejo Nacional de Resucitación"/>
            <p:cNvPicPr/>
            <p:nvPr/>
          </p:nvPicPr>
          <p:blipFill>
            <a:blip r:embed="rId4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28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HA Blue outline hero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80172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6"/>
          <p:cNvGrpSpPr/>
          <p:nvPr/>
        </p:nvGrpSpPr>
        <p:grpSpPr>
          <a:xfrm>
            <a:off x="720" y="0"/>
            <a:ext cx="1355760" cy="966960"/>
            <a:chOff x="720" y="0"/>
            <a:chExt cx="1355760" cy="966960"/>
          </a:xfrm>
        </p:grpSpPr>
        <p:pic>
          <p:nvPicPr>
            <p:cNvPr id="128" name="Picture 7" descr="Logo Consejo Nacional de Resucitación"/>
            <p:cNvPicPr/>
            <p:nvPr/>
          </p:nvPicPr>
          <p:blipFill>
            <a:blip r:embed="rId2"/>
            <a:srcRect l="0" t="-311" r="0" b="27232"/>
            <a:stretch/>
          </p:blipFill>
          <p:spPr>
            <a:xfrm>
              <a:off x="228600" y="0"/>
              <a:ext cx="86184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8"/>
            <p:cNvSpPr/>
            <p:nvPr/>
          </p:nvSpPr>
          <p:spPr>
            <a:xfrm>
              <a:off x="720" y="538200"/>
              <a:ext cx="1355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Consejo Nac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100" spc="-1" strike="noStrike">
                  <a:solidFill>
                    <a:srgbClr val="ffffff"/>
                  </a:solidFill>
                  <a:latin typeface="Arial"/>
                </a:rPr>
                <a:t>de Resucita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11" descr=""/>
          <p:cNvPicPr/>
          <p:nvPr/>
        </p:nvPicPr>
        <p:blipFill>
          <a:blip r:embed="rId3"/>
          <a:stretch/>
        </p:blipFill>
        <p:spPr>
          <a:xfrm>
            <a:off x="0" y="2336760"/>
            <a:ext cx="9144000" cy="219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1:56:18Z</dcterms:created>
  <dc:creator>CHRISTIAN POZO</dc:creator>
  <dc:description/>
  <dc:language>en-US</dc:language>
  <cp:lastModifiedBy>Secretaria</cp:lastModifiedBy>
  <dcterms:modified xsi:type="dcterms:W3CDTF">2015-03-10T12:42:07Z</dcterms:modified>
  <cp:revision>53</cp:revision>
  <dc:subject/>
  <dc:title>Diapositiva 1</dc:title>
</cp:coreProperties>
</file>